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DB89D-79CB-4156-82BC-73ED430C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397AC-2F34-48A5-A727-9F591FF1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713D3-FA6F-4548-B378-FB7078D9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FEE9-9DE6-47DF-891D-E0BD0D1D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960B-1998-4E8B-809C-0381275B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1866-64EB-4E0E-BC6B-82AB2339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7D85-8C16-4B2C-8FE2-1F780EF0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B26E-27B0-4A05-9D71-B1ED9F64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59A3-C7A0-4412-AD7E-71E3DFE6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A6D6-6571-4586-A5E3-4E865F47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2E92-E10B-4B06-A6D7-DE1CCD5A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5850E-FBEC-4FCD-9E5F-526610A3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18D6-4056-4BBC-BED3-79068FFF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4D4A-062B-4CAA-9D5F-7A6B1907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E165-9FA6-44E6-B15F-2847E935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CF64-3849-4B1D-9ED4-79AC4FC9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DC39-6202-4F6E-8A27-2FA69CC7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7B159-F451-48E5-85CF-0E74DF5B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E4453-B063-4D14-8255-D644DC37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36193-0724-4A75-995F-BD7AC377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4A40E-1011-4703-89A0-D83E67A5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F91FC-A379-4DD0-BAB4-7B8BFD64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204FD-6F8A-4E79-B56F-BD803088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A285B-8CC1-4386-A3D8-EE6566D4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4B4D-35CF-4CFA-8E71-3CA8A8546E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F84E-3221-49E1-B714-3AFFF4D37C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ll Cipher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polygraphic cipher was developed by the mathematician Lester Hill in 1929 - called the Hill Ciph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cessive plaintext letters and substitutes for them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phertex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82378-F828-4DD2-8AD2-8A6F8C6E00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3276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haracter is assigned a numerical val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0, b = 1, . . ., z = 2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 the transformation of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given by 3 equations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80320" y="4700520"/>
            <a:ext cx="364068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2560" y="4664160"/>
            <a:ext cx="3841560" cy="1561680"/>
            <a:chOff x="1942560" y="4664160"/>
            <a:chExt cx="3841560" cy="1561680"/>
          </a:xfrm>
        </p:grpSpPr>
        <p:grpSp>
          <p:nvGrpSpPr>
            <p:cNvPr id="119" name=""/>
            <p:cNvGrpSpPr/>
            <p:nvPr/>
          </p:nvGrpSpPr>
          <p:grpSpPr>
            <a:xfrm>
              <a:off x="3794040" y="4664160"/>
              <a:ext cx="1990080" cy="1561680"/>
              <a:chOff x="3794040" y="4664160"/>
              <a:chExt cx="1990080" cy="1561680"/>
            </a:xfrm>
          </p:grpSpPr>
          <p:sp>
            <p:nvSpPr>
              <p:cNvPr id="120" name=""/>
              <p:cNvSpPr/>
              <p:nvPr/>
            </p:nvSpPr>
            <p:spPr>
              <a:xfrm>
                <a:off x="3794040" y="4721040"/>
                <a:ext cx="40896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584240" y="469260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374800" y="466416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94040" y="5263920"/>
                <a:ext cx="40896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84240" y="523548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74800" y="5207040"/>
                <a:ext cx="409320" cy="40896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794040" y="5816520"/>
                <a:ext cx="40896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584240" y="5788080"/>
                <a:ext cx="409320" cy="40896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74800" y="575928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942560" y="528480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K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EB693-86F3-4DF2-9316-38AA1DBA01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160" y="1636560"/>
            <a:ext cx="774396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ll cipher is really a matrix multiplic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ciphering key is an n x n matrix,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ciphering key is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if n = 3 one possible key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053000" y="4057560"/>
            <a:ext cx="3120120" cy="1074240"/>
            <a:chOff x="1053000" y="4057560"/>
            <a:chExt cx="3120120" cy="1074240"/>
          </a:xfrm>
        </p:grpSpPr>
        <p:sp>
          <p:nvSpPr>
            <p:cNvPr id="133" name=""/>
            <p:cNvSpPr/>
            <p:nvPr/>
          </p:nvSpPr>
          <p:spPr>
            <a:xfrm>
              <a:off x="1706400" y="4214880"/>
              <a:ext cx="246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7  17  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1  18  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   2  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53000" y="4057560"/>
              <a:ext cx="2974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 = 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(       )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978440" y="4073400"/>
            <a:ext cx="3331800" cy="1034640"/>
            <a:chOff x="4978440" y="4073400"/>
            <a:chExt cx="3331800" cy="1034640"/>
          </a:xfrm>
        </p:grpSpPr>
        <p:sp>
          <p:nvSpPr>
            <p:cNvPr id="136" name=""/>
            <p:cNvSpPr/>
            <p:nvPr/>
          </p:nvSpPr>
          <p:spPr>
            <a:xfrm>
              <a:off x="5843520" y="4191120"/>
              <a:ext cx="246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   9  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5  17  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4   0  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78440" y="4073400"/>
              <a:ext cx="3183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(       )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341720" y="547992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   ‘n o 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8520" y="5705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14 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319560" y="5310360"/>
            <a:ext cx="4036320" cy="1458360"/>
            <a:chOff x="3319560" y="5310360"/>
            <a:chExt cx="4036320" cy="1458360"/>
          </a:xfrm>
        </p:grpSpPr>
        <p:sp>
          <p:nvSpPr>
            <p:cNvPr id="141" name=""/>
            <p:cNvSpPr/>
            <p:nvPr/>
          </p:nvSpPr>
          <p:spPr>
            <a:xfrm>
              <a:off x="3319560" y="5334120"/>
              <a:ext cx="2854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3351240" y="5310360"/>
              <a:ext cx="4004640" cy="801720"/>
              <a:chOff x="3351240" y="5310360"/>
              <a:chExt cx="4004640" cy="801720"/>
            </a:xfrm>
          </p:grpSpPr>
          <p:sp>
            <p:nvSpPr>
              <p:cNvPr id="143" name=""/>
              <p:cNvSpPr/>
              <p:nvPr/>
            </p:nvSpPr>
            <p:spPr>
              <a:xfrm>
                <a:off x="4398840" y="5343840"/>
                <a:ext cx="3664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3351240" y="5310360"/>
                <a:ext cx="4004640" cy="801720"/>
                <a:chOff x="3351240" y="5310360"/>
                <a:chExt cx="4004640" cy="801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511080" y="5446800"/>
                  <a:ext cx="91224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17 17  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1 18 2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  2 1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351240" y="5310360"/>
                  <a:ext cx="3664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820400" y="5343840"/>
                  <a:ext cx="25354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Arial"/>
                    </a:rPr>
                    <a:t>) = ( )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mod 26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230720" y="5337360"/>
                  <a:ext cx="3664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618440" y="5470560"/>
                  <a:ext cx="3636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836320" y="5451480"/>
                  <a:ext cx="3636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1" name=""/>
          <p:cNvGrpSpPr/>
          <p:nvPr/>
        </p:nvGrpSpPr>
        <p:grpSpPr>
          <a:xfrm>
            <a:off x="5600160" y="6068520"/>
            <a:ext cx="842040" cy="791640"/>
            <a:chOff x="5600160" y="6068520"/>
            <a:chExt cx="842040" cy="791640"/>
          </a:xfrm>
        </p:grpSpPr>
        <p:sp>
          <p:nvSpPr>
            <p:cNvPr id="152" name=""/>
            <p:cNvSpPr/>
            <p:nvPr/>
          </p:nvSpPr>
          <p:spPr>
            <a:xfrm>
              <a:off x="5600160" y="640044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 u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013440" y="6068520"/>
              <a:ext cx="0" cy="49212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629C6-C3D5-48CD-881E-281B032B78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3520" y="1787400"/>
            <a:ext cx="82296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P will create a Hill cipher for groups of 2 to 6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790720" y="3552840"/>
            <a:ext cx="4735440" cy="3068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381560" y="3583080"/>
            <a:ext cx="1390680" cy="676080"/>
          </a:xfrm>
          <a:prstGeom prst="wedgeRoundRectCallout">
            <a:avLst>
              <a:gd name="adj1" fmla="val -43722"/>
              <a:gd name="adj2" fmla="val 60796"/>
              <a:gd name="adj3" fmla="val 16667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First, enter the group size – which is the same as the matrix 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1160" y="3068640"/>
            <a:ext cx="1390680" cy="676440"/>
          </a:xfrm>
          <a:prstGeom prst="wedgeRoundRectCallout">
            <a:avLst>
              <a:gd name="adj1" fmla="val -43722"/>
              <a:gd name="adj2" fmla="val 60796"/>
              <a:gd name="adj3" fmla="val 16667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CAP will generate a matrix for you or you can load 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5DC01-2E47-42A2-B533-E3BFDA344D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8T02:53:41Z</dcterms:modified>
  <cp:revision>68</cp:revision>
  <dc:subject/>
  <dc:title>CAP Cryptographic Analysis Program</dc:title>
</cp:coreProperties>
</file>